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EBE-FB57-41C6-B153-593D9A3C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76C3-F166-4731-A2AD-276DFD7A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BFF-9A0B-4ABE-9C55-7A682DD4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343-9007-418E-9045-EDA8B15B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4776-10AF-467E-ABF2-18F5F748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51C-6EB3-4FE5-BD43-A6AB75C2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112-1054-4C1C-8D58-B571742B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F8F7-9CEC-4499-9ECA-C55A40F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8E92-086D-4983-822A-F522D47C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D08-D4F7-4C13-B519-53B646A3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7B7-9A92-4918-A201-C4131496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AC3-7109-41A3-B51C-76716891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BB30-7326-43CC-97FF-8F2B8F1A5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y Unterhal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reibt eine “Handy” Unterhaltu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hello and introduce yourself (b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 (using ein*laden) the person on the other end to go somewhere with you using our “in” vocabul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both a time (NOT ON THE HOUR), a day of the week and a pl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ine the invitation and suggest an alternate time or day of the we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ee to that sug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icht or ke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form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*ho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t*ge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*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of you must say good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umbers must be written out a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 hand thi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it for the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deas:  Use wo, a date, anrufen vocab or grammar from another chapte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349280"/>
            <a:ext cx="910260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mplete.  Missing the majority of the require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what incomplete.  Missing many requirements and had many irrelevant detai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ly complete.  Was missing one or two requirem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ehensibilit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mprehens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is difficult to underst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ropriate language.  Clearly conveys the main 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rrect or incomplete sentences.  Usage problems significantly distort mess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y incorrect required elem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ly correct.  All sentences were complete, but there were minor problems with vocabulary or spelling.  (minor errors in required elemen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ly correct.  Very few or no problems with grammar and spelling.  (No errors in required elemen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es not meet requir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ets requirements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nt above and beyond what was expected in terms of content and crea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entation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ject  was sloppy or had crossed out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ll organized.  Easily reada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UENCY – ARE YOU SPEAKING SMOOTHLY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Uneven, long pauses, incomplete phrases and senten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Some hesitation, but thoughts are complete phrased and intoned proper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    Very few pauses or very little stumbling over words, sounds close to  a native speaker’s language for this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NUNCIATION – ARE YOU PRONOUNCING “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AUF DEUTS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Mispronunciation frequently makes it difficult to understan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Sometimes pronunciation makes it hard to understand. Only a sympathetic listener would understand yo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    Not perfect, but does not interfere with understan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     Intonation really helps understanding of liste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620120" y="47671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0"/>
            <a:ext cx="910260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______________________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Introduction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ladung/Invitation ______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______/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______/3 (1 for spelling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of week __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____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suggestion  ______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ht/kein ____/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ht/kein ____/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holen/mitgehen/anfangen ________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ern __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bye 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bye _____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924680" y="13352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/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590920" y="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5 690-13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nly get one ch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the phone quickly back and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YOUR REQUIREMENTS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9:07:17Z</dcterms:created>
  <dc:creator>udsd</dc:creator>
  <dc:description/>
  <dc:language>en-US</dc:language>
  <cp:lastModifiedBy>tmsadmin</cp:lastModifiedBy>
  <dcterms:modified xsi:type="dcterms:W3CDTF">2013-12-11T17:22:12Z</dcterms:modified>
  <cp:revision>20</cp:revision>
  <dc:subject/>
  <dc:title>Handy Unterhaltung</dc:title>
</cp:coreProperties>
</file>